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1F302-1916-4122-B964-293F771EA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D5482-D814-4E3C-A01E-FCBAA62D2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35E8D-6743-4654-AF29-34DEA53E1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E9B61-ED0A-498F-8AB9-32B69AAFF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0FA1E-600B-4576-9E73-A9204EC68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8B782-81CB-4330-A19B-2043C212C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C253C-EB67-4DEE-9AFE-0C011F238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63EF7-C2A7-4620-B47F-C2780FE41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D9C0F-B5AB-45B6-8DDB-25B763142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E6044-E06E-42E9-9B6F-F89D62C43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E549B-8892-4D12-8482-66371C374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BB2BF-E015-4F36-ADC9-BC9F9E331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D65CA-A270-4993-9411-BD1417E0F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F0F54-9FA3-4910-8766-E839C3AA1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2B03C-87CE-4B86-9142-75C459AED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ED9C4-EB57-4DB7-B152-F8FC6E705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07A65-1385-45DD-9B7E-7F996DA89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002B1-F6D3-4410-8647-D3DF25017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95CF8-27F6-412F-AE0C-571C4DEE0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0971E-91DA-4C58-9D4D-B0B814DC5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13327-6954-4A8D-AF7A-0E08FA139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B65DF-976D-4CD1-BB83-58C11D7DF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37F1A-5B9E-4F7B-93EC-995C3284F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9D728-6BB9-4B6F-8462-B0DD549EA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42CD571-90A5-4A6E-907D-8319253090EB}" type="slidenum">
              <a:rPr b="0" lang="fr-FR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val 6"/>
          <p:cNvSpPr/>
          <p:nvPr/>
        </p:nvSpPr>
        <p:spPr>
          <a:xfrm>
            <a:off x="449568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val 7"/>
          <p:cNvSpPr/>
          <p:nvPr/>
        </p:nvSpPr>
        <p:spPr>
          <a:xfrm>
            <a:off x="469584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val 8"/>
          <p:cNvSpPr/>
          <p:nvPr/>
        </p:nvSpPr>
        <p:spPr>
          <a:xfrm>
            <a:off x="429732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3F2F41-4565-430C-9C1F-C968D4017A69}" type="slidenum">
              <a:rPr b="0" lang="fr-FR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ZoneTexte 2"/>
          <p:cNvSpPr/>
          <p:nvPr/>
        </p:nvSpPr>
        <p:spPr>
          <a:xfrm>
            <a:off x="379440" y="334800"/>
            <a:ext cx="8218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e fonctionnement du réseau Leclerc et le rôle des struc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Diagramme 3" descr=""/>
          <p:cNvPicPr/>
          <p:nvPr/>
        </p:nvPicPr>
        <p:blipFill>
          <a:blip r:embed="rId1"/>
          <a:stretch/>
        </p:blipFill>
        <p:spPr>
          <a:xfrm>
            <a:off x="1268280" y="1023840"/>
            <a:ext cx="680256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0T22:16:17Z</dcterms:created>
  <dc:creator>Samuel Mayol</dc:creator>
  <dc:description/>
  <dc:language>en-US</dc:language>
  <cp:lastModifiedBy>jbesne</cp:lastModifiedBy>
  <dcterms:modified xsi:type="dcterms:W3CDTF">2018-06-12T14:08:15Z</dcterms:modified>
  <cp:revision>47</cp:revision>
  <dc:subject/>
  <dc:title>La Grande Distribution et son Marketing</dc:title>
</cp:coreProperties>
</file>