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3B13-6B7B-42D4-BD98-FBBB512C4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2772-35DA-4519-A0DF-F2F55A98E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E1C7-5C08-462A-B523-CA9635561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6D0E-2510-45C7-8F6D-510084BDF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8D077-6B71-4582-8564-50B95EB44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FADCD-1E79-4A91-A6DD-CFFC3C9AE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DDCB7-994B-4A7C-A9C9-CBA582C20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90E4F-7515-4364-A090-B84FD192B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7E538-71B9-4625-844A-C9441FAB4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FB844-FA04-4F6A-A2FE-537198CC6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DEFEF-458F-4D2A-93F0-51F203EE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6D1A-840F-489E-A163-1C67D9112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D368A-0FFF-4BA2-966E-E68E6B13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A9C36-3538-40DD-868B-D43DD76E6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40357-C1D3-43DA-BD44-86CBE3FD5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3B21E-4805-4934-A242-797AEE277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35028-0E3E-4A30-BEF6-39C362A86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F65A-1662-4D78-A081-8FFFE78F5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29AC-FDA5-420E-A34F-9B439FC75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05BC-AE5F-4367-B29F-350E606F2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ACB3-2BC3-4CDE-8BBC-CC5023BC0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F86F-D9E6-4452-9110-FCFDB825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5494-16C2-4EF7-AE32-B03EE4667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0BD9-F72D-44E9-A28E-26034C674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345C0D-DE58-49DC-B770-3A2459E8977D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6B6751-AF5B-4C7C-B534-81FC6F162114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oneTexte 2"/>
          <p:cNvSpPr/>
          <p:nvPr/>
        </p:nvSpPr>
        <p:spPr>
          <a:xfrm>
            <a:off x="379440" y="360360"/>
            <a:ext cx="821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rganigramme du Carrefour de Mondev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Diagramme 6" descr=""/>
          <p:cNvPicPr/>
          <p:nvPr/>
        </p:nvPicPr>
        <p:blipFill>
          <a:blip r:embed="rId1"/>
          <a:stretch/>
        </p:blipFill>
        <p:spPr>
          <a:xfrm>
            <a:off x="1517760" y="1212840"/>
            <a:ext cx="650376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ZoneTexte 2"/>
          <p:cNvSpPr/>
          <p:nvPr/>
        </p:nvSpPr>
        <p:spPr>
          <a:xfrm>
            <a:off x="379440" y="360360"/>
            <a:ext cx="821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iche profil de poste : chef de ray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Image 3" descr=""/>
          <p:cNvPicPr/>
          <p:nvPr/>
        </p:nvPicPr>
        <p:blipFill>
          <a:blip r:embed="rId1"/>
          <a:stretch/>
        </p:blipFill>
        <p:spPr>
          <a:xfrm>
            <a:off x="1482840" y="917640"/>
            <a:ext cx="6327720" cy="5340240"/>
          </a:xfrm>
          <a:prstGeom prst="rect">
            <a:avLst/>
          </a:prstGeom>
          <a:ln w="0">
            <a:noFill/>
          </a:ln>
        </p:spPr>
      </p:pic>
      <p:sp>
        <p:nvSpPr>
          <p:cNvPr id="93" name="ZoneTexte 3"/>
          <p:cNvSpPr/>
          <p:nvPr/>
        </p:nvSpPr>
        <p:spPr>
          <a:xfrm>
            <a:off x="3575160" y="2494080"/>
            <a:ext cx="1770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Chef de ray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ZoneTexte 4"/>
          <p:cNvSpPr/>
          <p:nvPr/>
        </p:nvSpPr>
        <p:spPr>
          <a:xfrm>
            <a:off x="5022720" y="2671920"/>
            <a:ext cx="1770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fr-FR" sz="11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oneTexte 5"/>
          <p:cNvSpPr/>
          <p:nvPr/>
        </p:nvSpPr>
        <p:spPr>
          <a:xfrm>
            <a:off x="2327400" y="3668760"/>
            <a:ext cx="169380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Management de l’équip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Gestion des stocks </a:t>
            </a:r>
            <a:br>
              <a:rPr sz="1100"/>
            </a:b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et des command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oneTexte 6"/>
          <p:cNvSpPr/>
          <p:nvPr/>
        </p:nvSpPr>
        <p:spPr>
          <a:xfrm>
            <a:off x="5121360" y="3578400"/>
            <a:ext cx="198756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Choix des produits à mettre en ava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Organisation des animations et des promotions dans le ray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ZoneTexte 7"/>
          <p:cNvSpPr/>
          <p:nvPr/>
        </p:nvSpPr>
        <p:spPr>
          <a:xfrm>
            <a:off x="3300480" y="5303880"/>
            <a:ext cx="3041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Organisé, polyvalent, responsable, souriant, sens du contac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22:16:17Z</dcterms:created>
  <dc:creator>Samuel Mayol</dc:creator>
  <dc:description/>
  <dc:language>en-US</dc:language>
  <cp:lastModifiedBy>jbesne</cp:lastModifiedBy>
  <dcterms:modified xsi:type="dcterms:W3CDTF">2018-06-12T14:07:08Z</dcterms:modified>
  <cp:revision>41</cp:revision>
  <dc:subject/>
  <dc:title>La Grande Distribution et son Marketing</dc:title>
</cp:coreProperties>
</file>