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CA30-ECC2-4364-88DD-69B595705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6C55-50F9-446D-8D2C-E3CA6F0E6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68CF-4F7B-48D6-9B5E-0FA128947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5040-3F45-47F3-9A3B-6D1CDD9BF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FCAE8-A234-446B-95EA-CC2808E48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E71C3-3121-419C-82D9-95BE5941F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6BA4F-3942-4623-B18C-EF17E6C63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C02AD-6010-4FF7-A7ED-6271CAEA1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28B3A-C182-4BE4-9546-849E0B016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5DDD2-B2F9-48CF-A529-B98906518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9B77F-DD55-48AC-9714-B238603B0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65E5-B9FB-4441-A45E-A54BBDD4F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5586E-528C-46A6-B013-31E2EE178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55ED5-C3CC-4B0E-92E0-D7FD33D66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FF0C6-F782-44AC-98D3-EC209F11A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5C9B9-E412-4BD9-86B2-D2B1B485E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CDDFC-631B-4C9E-9FE4-354FF8418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8388-4FE9-4545-91DD-27BADF92C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3E69-5CFB-4694-A04F-01ADE8127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C6BC-C4D0-4E1B-A221-A8EF26885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614C-DD1D-4293-B1AB-37189F1A6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EC5D-6AA1-43CC-A75C-9E07360B2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9E08-5D53-45B6-BE38-5BB056193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86A9-05D9-4209-99A1-39B3B1479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B22435-5839-4079-BFCC-1938D530F80B}" type="slidenum"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6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7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8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99DBEC-0CBC-4293-8096-2D3DAD9FD35F}" type="slidenum"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ZoneTexte 2"/>
          <p:cNvSpPr/>
          <p:nvPr/>
        </p:nvSpPr>
        <p:spPr>
          <a:xfrm>
            <a:off x="379440" y="334800"/>
            <a:ext cx="8218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e fonctionnement du réseau Leclerc et le rôle des stru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Diagramme 3" descr=""/>
          <p:cNvPicPr/>
          <p:nvPr/>
        </p:nvPicPr>
        <p:blipFill>
          <a:blip r:embed="rId1"/>
          <a:stretch/>
        </p:blipFill>
        <p:spPr>
          <a:xfrm>
            <a:off x="1268280" y="1023840"/>
            <a:ext cx="68025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0T22:16:17Z</dcterms:created>
  <dc:creator>Samuel Mayol</dc:creator>
  <dc:description/>
  <dc:language>en-US</dc:language>
  <cp:lastModifiedBy>jbesne</cp:lastModifiedBy>
  <dcterms:modified xsi:type="dcterms:W3CDTF">2018-06-12T14:08:15Z</dcterms:modified>
  <cp:revision>47</cp:revision>
  <dc:subject/>
  <dc:title>La Grande Distribution et son Marketing</dc:title>
</cp:coreProperties>
</file>