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C910-C728-4D43-9B6D-45596265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E3C5-4728-43E9-877E-F6F88B1A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051F-10F0-4D68-859E-668AC4EE7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E1D0-3B38-4D5A-BE1E-9E8DB57D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A69D-5E68-47CE-B077-237A2DC5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8499-A7A0-4792-BFEF-C86CA5A3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A5EA-89FB-4057-B046-EBAA30E5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F205-D154-4149-A438-3B5BC249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6695-9E81-4399-8BA1-61384290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6CB3-320F-480C-B2BD-77188C0E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024D-31D4-4876-B4EC-F793FB7C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97A2-C9C2-4C99-97AD-94382DD4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F713-18DB-404C-A021-5377E653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6B48-5CC2-446F-95E1-63A680EB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1F2D-43AC-47FB-8C2A-71CAFCBC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B16E-807B-4816-A799-149FF13A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A37E-8CC5-42AB-94C0-EAA555235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0088-B886-44B4-97F9-F352CA33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1526-035A-422A-BD94-71B40B5A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95E4-5F00-4423-9A38-E60AA205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9369-A3E0-43CD-9301-BBDABB4D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8383-CA51-45DE-88EF-BD50B6AD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86F7-F625-41B8-8CDE-40FAB843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D2DC-681C-4FE4-8CDD-105D9A51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E428F1-D178-4A9F-8E4F-87E665E13C23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A1EACC-F239-46A4-8AED-0CF56577E8F1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rganigramme du Carrefour de Monde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6" descr=""/>
          <p:cNvPicPr/>
          <p:nvPr/>
        </p:nvPicPr>
        <p:blipFill>
          <a:blip r:embed="rId1"/>
          <a:stretch/>
        </p:blipFill>
        <p:spPr>
          <a:xfrm>
            <a:off x="1517760" y="1212840"/>
            <a:ext cx="65037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3"/>
          <p:cNvSpPr/>
          <p:nvPr/>
        </p:nvSpPr>
        <p:spPr>
          <a:xfrm>
            <a:off x="3575160" y="249408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ef d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4"/>
          <p:cNvSpPr/>
          <p:nvPr/>
        </p:nvSpPr>
        <p:spPr>
          <a:xfrm>
            <a:off x="5022720" y="267192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11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5"/>
          <p:cNvSpPr/>
          <p:nvPr/>
        </p:nvSpPr>
        <p:spPr>
          <a:xfrm>
            <a:off x="2327400" y="3668760"/>
            <a:ext cx="16938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Management de l’équ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Gestion des stocks </a:t>
            </a:r>
            <a:br>
              <a:rPr sz="1100"/>
            </a:b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et des comman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6"/>
          <p:cNvSpPr/>
          <p:nvPr/>
        </p:nvSpPr>
        <p:spPr>
          <a:xfrm>
            <a:off x="5121360" y="3578400"/>
            <a:ext cx="19875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oix des produits à mettre en ava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ation des animations et des promotions dans l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7"/>
          <p:cNvSpPr/>
          <p:nvPr/>
        </p:nvSpPr>
        <p:spPr>
          <a:xfrm>
            <a:off x="3300480" y="5303880"/>
            <a:ext cx="3041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é, polyvalent, responsable, souriant, sens du conta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7:08Z</dcterms:modified>
  <cp:revision>41</cp:revision>
  <dc:subject/>
  <dc:title>La Grande Distribution et son Marketing</dc:title>
</cp:coreProperties>
</file>