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2B0-8F0C-45A0-8790-4B6B3E6B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8322-29E5-47AC-851B-DB9835D3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328F-3DF3-4483-95D9-8B22DF51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4336-66C2-4C2A-87EF-60721E88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B92D-A6C3-4DA9-9BD9-40BEE14A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E7B5-984C-4AD1-BA22-831BA74F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5607-E3D7-4DA8-A933-C88F8813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DB9E-98FF-4563-9CFE-58E7FAC0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836E-F5C3-483B-BD85-035EF3C2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7740-FEA2-4027-B0A1-86745F3E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9C0D-3D60-4E0D-A43F-45D6ACD8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FAF0-901A-4ECD-B90F-11D39DF7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45EB-937B-4BBA-A4A6-8A509295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E74E-8EDF-413A-9FF1-BD904CD3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15E5-4822-4C7B-A339-2A08163B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0273-4A2F-4DB9-A6C4-26A90FFB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3220-3ACA-4B4B-9DBF-DB9C045C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FC48-CAE7-4C97-B2E7-9C058A83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3B61-3B43-41D9-BBC6-CCE5460D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7221-D467-48F4-885B-89E5B4BB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A461-8B83-431D-8E02-7BE5D240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000A-8CC5-4912-9068-4CE7D468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3BA5-BDF4-4DFA-87E8-B30FC09A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E5A1-0407-441B-8F7F-A4E7183A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B5449E-78BA-4DE3-BF02-8747A1C03267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29E592-F152-4A98-8BA8-2E77056040E7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34800"/>
            <a:ext cx="82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fonctionnement du réseau Leclerc et le rôle des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3" descr=""/>
          <p:cNvPicPr/>
          <p:nvPr/>
        </p:nvPicPr>
        <p:blipFill>
          <a:blip r:embed="rId1"/>
          <a:stretch/>
        </p:blipFill>
        <p:spPr>
          <a:xfrm>
            <a:off x="1268280" y="1023840"/>
            <a:ext cx="68025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8:15Z</dcterms:modified>
  <cp:revision>47</cp:revision>
  <dc:subject/>
  <dc:title>La Grande Distribution et son Marketing</dc:title>
</cp:coreProperties>
</file>