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EE6F-08FC-4FE7-85B8-07B81F72E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132A-638B-475A-B944-D9B342394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7CDF-7E79-44A8-869C-3F52F9C2C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DE27-C981-4AAE-870B-33C245BD3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0461A-4D7C-447B-A255-BD3B3AE97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92140-7D0C-4EC1-AAA3-5A45FAC34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7146F-654D-4B20-9BFA-156B850B8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EE33D-AD52-49CC-8DC4-6FC561A3C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CDD0C-3BD9-4BD0-90B2-D523FF4A4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B734E-5C9A-447E-8BB7-42026F119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C9A9B-BE0F-4646-BEDD-71E67145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797F-999C-4AF2-9DA0-E618859D9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76803-239D-4C6B-8BED-D5FB0DB6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531BF-6A4C-43D4-AB74-67A4C1A1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8499F-6D9E-45C0-B40B-3114A815C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1B0AD-3B90-414F-8B45-710017D05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A4B02-E51E-4D90-8CD2-AE621582F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B0C1-3A54-42C5-8783-7B1870CE2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2AAB-2A5C-4489-A5F3-AAEBD3599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1009-3057-44B2-8515-30857F5EF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A089-1225-4D15-8F91-BF87C7872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53B5-35C1-43CF-8CA7-5BDA353E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EB42-295D-4864-89E9-FB92DFEE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0103-A740-40D5-BE3E-398270CF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C06172-8C01-4FD9-BDB3-EA05E7BE2036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FAEC08-2A6B-418C-84B8-2FC273C2F44E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2"/>
          <p:cNvSpPr/>
          <p:nvPr/>
        </p:nvSpPr>
        <p:spPr>
          <a:xfrm>
            <a:off x="379440" y="360360"/>
            <a:ext cx="82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rganigramme du Carrefour de Mondev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Diagramme 6" descr=""/>
          <p:cNvPicPr/>
          <p:nvPr/>
        </p:nvPicPr>
        <p:blipFill>
          <a:blip r:embed="rId1"/>
          <a:stretch/>
        </p:blipFill>
        <p:spPr>
          <a:xfrm>
            <a:off x="1517760" y="1212840"/>
            <a:ext cx="650376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ZoneTexte 2"/>
          <p:cNvSpPr/>
          <p:nvPr/>
        </p:nvSpPr>
        <p:spPr>
          <a:xfrm>
            <a:off x="379440" y="360360"/>
            <a:ext cx="82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iche profil de poste : chef de ray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Image 3" descr=""/>
          <p:cNvPicPr/>
          <p:nvPr/>
        </p:nvPicPr>
        <p:blipFill>
          <a:blip r:embed="rId1"/>
          <a:stretch/>
        </p:blipFill>
        <p:spPr>
          <a:xfrm>
            <a:off x="1482840" y="917640"/>
            <a:ext cx="6327720" cy="5340240"/>
          </a:xfrm>
          <a:prstGeom prst="rect">
            <a:avLst/>
          </a:prstGeom>
          <a:ln w="0">
            <a:noFill/>
          </a:ln>
        </p:spPr>
      </p:pic>
      <p:sp>
        <p:nvSpPr>
          <p:cNvPr id="93" name="ZoneTexte 3"/>
          <p:cNvSpPr/>
          <p:nvPr/>
        </p:nvSpPr>
        <p:spPr>
          <a:xfrm>
            <a:off x="3575160" y="2494080"/>
            <a:ext cx="1770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Chef de ray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ZoneTexte 4"/>
          <p:cNvSpPr/>
          <p:nvPr/>
        </p:nvSpPr>
        <p:spPr>
          <a:xfrm>
            <a:off x="5022720" y="2671920"/>
            <a:ext cx="1770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fr-FR" sz="11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oneTexte 5"/>
          <p:cNvSpPr/>
          <p:nvPr/>
        </p:nvSpPr>
        <p:spPr>
          <a:xfrm>
            <a:off x="2327400" y="3668760"/>
            <a:ext cx="169380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Management de l’équip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Gestion des stocks </a:t>
            </a:r>
            <a:br>
              <a:rPr sz="1100"/>
            </a:b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et des command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oneTexte 6"/>
          <p:cNvSpPr/>
          <p:nvPr/>
        </p:nvSpPr>
        <p:spPr>
          <a:xfrm>
            <a:off x="5121360" y="3578400"/>
            <a:ext cx="198756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Choix des produits à mettre en ava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Organisation des animations et des promotions dans le ray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ZoneTexte 7"/>
          <p:cNvSpPr/>
          <p:nvPr/>
        </p:nvSpPr>
        <p:spPr>
          <a:xfrm>
            <a:off x="3300480" y="5303880"/>
            <a:ext cx="3041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Organisé, polyvalent, responsable, souriant, sens du contac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2:16:17Z</dcterms:created>
  <dc:creator>Samuel Mayol</dc:creator>
  <dc:description/>
  <dc:language>en-US</dc:language>
  <cp:lastModifiedBy>jbesne</cp:lastModifiedBy>
  <dcterms:modified xsi:type="dcterms:W3CDTF">2018-06-12T14:07:08Z</dcterms:modified>
  <cp:revision>41</cp:revision>
  <dc:subject/>
  <dc:title>La Grande Distribution et son Marketing</dc:title>
</cp:coreProperties>
</file>