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3A8C0-61F1-42F6-9FFF-B118561CE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DCB2E-C3DF-4B9D-8578-84E19D142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E6349-DAB7-4053-A792-7AE492E91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1D54C-C0A6-4539-A972-113FFF8E4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8726E-0F36-4E8C-8B50-E253DAC8E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1C1A6-3B1F-4C10-B039-8ECFA4E8E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7CAA7-84AE-40B5-A9B7-FFE852899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B8E8E-97CD-4C1B-A0E6-3387FB0DA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BB036-145B-4F26-AE39-E431A7557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470E2-614B-461D-8D91-314825BFF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FE51F-C4A1-41E6-BB7B-D6A8CA2A5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03ED2-0FC0-49F7-A9CC-CA13131CC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8E014-1E81-4AC1-849E-1A269B857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07D6C-323E-404B-AF0F-6230BF317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57A43-08D8-4D6B-8997-6738952F2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2E1EE-E961-43D6-8946-D7F80D115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7CD74-0CBC-412E-B439-A9B1C7651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0B789-B943-4F35-8A4E-CAA75E25C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7C413-902C-4880-8F9F-BF2538386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01242-D08C-4EF5-8715-7055342F6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E3AD2-0B45-4AA0-8804-D93EFFE35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56DEA-7194-4C3D-8AB1-8DBE39D54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0F5CC-4037-48A9-BF27-A14162A21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EE49B-AC91-4843-BE06-C25319D7A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4030485-DB1E-4516-979D-017B0190037C}" type="slidenum">
              <a:rPr b="0" lang="fr-FR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val 6"/>
          <p:cNvSpPr/>
          <p:nvPr/>
        </p:nvSpPr>
        <p:spPr>
          <a:xfrm>
            <a:off x="449568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val 7"/>
          <p:cNvSpPr/>
          <p:nvPr/>
        </p:nvSpPr>
        <p:spPr>
          <a:xfrm>
            <a:off x="469584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val 8"/>
          <p:cNvSpPr/>
          <p:nvPr/>
        </p:nvSpPr>
        <p:spPr>
          <a:xfrm>
            <a:off x="429732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A2E53D-4F6E-4484-ADD8-11BFE12E372C}" type="slidenum">
              <a:rPr b="0" lang="fr-FR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ZoneTexte 2"/>
          <p:cNvSpPr/>
          <p:nvPr/>
        </p:nvSpPr>
        <p:spPr>
          <a:xfrm>
            <a:off x="379440" y="360360"/>
            <a:ext cx="8218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Palatino Linotype"/>
                <a:ea typeface="Arial"/>
              </a:rPr>
              <a:t>Fiche profil de poste : chef de ray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Image 3" descr=""/>
          <p:cNvPicPr/>
          <p:nvPr/>
        </p:nvPicPr>
        <p:blipFill>
          <a:blip r:embed="rId1"/>
          <a:stretch/>
        </p:blipFill>
        <p:spPr>
          <a:xfrm>
            <a:off x="1482840" y="917640"/>
            <a:ext cx="6327720" cy="534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0T22:16:17Z</dcterms:created>
  <dc:creator>Samuel Mayol</dc:creator>
  <dc:description/>
  <dc:language>en-US</dc:language>
  <cp:lastModifiedBy>Besne.Julie</cp:lastModifiedBy>
  <dcterms:modified xsi:type="dcterms:W3CDTF">2018-09-04T16:42:58Z</dcterms:modified>
  <cp:revision>40</cp:revision>
  <dc:subject/>
  <dc:title>La Grande Distribution et son Marketing</dc:title>
</cp:coreProperties>
</file>