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3658-7012-485A-81B3-42C14304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38DB-FDA2-4B99-9EC6-37970EF1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3755-94D3-438D-A732-E3597FAF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B87E-DED0-4B40-81C8-90C32948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AD6A-DE3E-4662-9C49-2100799D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0E04-3FB9-40FD-88FA-92FE8080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6906-D0B5-4F7E-86D1-46930DDA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937C-64CA-4D6C-95D4-6634E6EA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B6A5-396F-4A97-BCC4-400C78E3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619D-872E-4F9D-9A14-244341BA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2AA0-B715-4A98-BBFA-43A33F22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3AB2-A272-46E6-8B3D-EEA3255B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0FFB-FD66-45D4-A03C-B543DA4F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9D46-0429-4B65-A59E-0D5F5297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41C3-6778-4D5D-9831-0AD34207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A8B6-8051-42C1-988B-E5992014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D6ED-5697-41F7-8A61-AFA46594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5CB9-B5E8-4790-8CC1-4831BDCE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6D9-3501-40DD-A73A-E9F7E867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B4C-2B0B-49A8-8C10-793263A9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9AA-9ACB-4DD9-84F5-017E215D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3CCF-76B4-4AC8-87DA-4A0AA3AC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AD7A-FC25-432A-AA30-81BD34E9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4129-AB58-4977-9853-C985C56A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BEC08-CD9E-468E-B6A9-76B3A7193C2C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5B5528-DBB7-4E27-B4D5-AFAEA48693E6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ganigramme du Carrefour de Mond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6" descr=""/>
          <p:cNvPicPr/>
          <p:nvPr/>
        </p:nvPicPr>
        <p:blipFill>
          <a:blip r:embed="rId1"/>
          <a:stretch/>
        </p:blipFill>
        <p:spPr>
          <a:xfrm>
            <a:off x="1517760" y="1212840"/>
            <a:ext cx="6503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3"/>
          <p:cNvSpPr/>
          <p:nvPr/>
        </p:nvSpPr>
        <p:spPr>
          <a:xfrm>
            <a:off x="3575160" y="249408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ef d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4"/>
          <p:cNvSpPr/>
          <p:nvPr/>
        </p:nvSpPr>
        <p:spPr>
          <a:xfrm>
            <a:off x="5022720" y="267192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11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"/>
          <p:cNvSpPr/>
          <p:nvPr/>
        </p:nvSpPr>
        <p:spPr>
          <a:xfrm>
            <a:off x="2327400" y="3668760"/>
            <a:ext cx="16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nagement de l’équ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Gestion des stocks </a:t>
            </a:r>
            <a:br>
              <a:rPr sz="1100"/>
            </a:b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et des comman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6"/>
          <p:cNvSpPr/>
          <p:nvPr/>
        </p:nvSpPr>
        <p:spPr>
          <a:xfrm>
            <a:off x="5121360" y="3578400"/>
            <a:ext cx="1987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oix des produits à mettre en av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ation des animations et des promotions dans l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7"/>
          <p:cNvSpPr/>
          <p:nvPr/>
        </p:nvSpPr>
        <p:spPr>
          <a:xfrm>
            <a:off x="3300480" y="5303880"/>
            <a:ext cx="304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é, polyvalent, responsable, souriant, sens du cont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7:08Z</dcterms:modified>
  <cp:revision>41</cp:revision>
  <dc:subject/>
  <dc:title>La Grande Distribution et son Marketing</dc:title>
</cp:coreProperties>
</file>