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E891-BA51-4629-9647-EC2D5D40B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D98B-D174-457F-8262-3A3DCEFDA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9C5F-0233-4899-B28A-928FCADBE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0B31-8A6E-4E0B-BB16-A27E44C27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32C35-4413-4258-810B-4CFBE2E7C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3B0AF-3ACF-4C36-933B-61A304DCC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441EC-837E-4BB9-B0D7-2705D6DE5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24056-1730-4488-8D7A-EFD013A44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C1F7E-8B46-4882-9864-0CAE7BA3D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37348-F9E8-43D2-B4B1-A8DB9CDF1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589B4-400E-4C74-93B6-DA4CE04E1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E111-667D-45DD-9627-89FC3EB35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04805-E6FC-4175-B3DD-271139D2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A3CA5-C218-41E4-9591-3FE6C2C7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04B24-D92C-422C-920B-E7E3C5F6C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40657-18D8-45AA-A72B-006CABD50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806A2-63CF-4E93-BC6A-450848291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3EED-4C3B-4452-8C81-956EFCE98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EAB3-BA70-450E-8D6F-12DE4BF12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FEC7-86D2-4F79-964E-ABA6AB05A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1EF2-23EA-4A9B-A3AC-65A1750CE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A8EA-86A6-4537-8CA6-A0633EBC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0576-D506-488F-97BA-A72FF9A5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33C7-3A58-49AE-91BA-8FC4188E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350931-972A-424E-BA8E-B32B0FBC68F2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A81F48-1815-4318-86C0-02A66F1A9CAD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oneTexte 2"/>
          <p:cNvSpPr/>
          <p:nvPr/>
        </p:nvSpPr>
        <p:spPr>
          <a:xfrm>
            <a:off x="379440" y="360360"/>
            <a:ext cx="821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Palatino Linotype"/>
                <a:ea typeface="Arial"/>
              </a:rPr>
              <a:t>Fiche profil de poste : chef de ray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mage 3" descr=""/>
          <p:cNvPicPr/>
          <p:nvPr/>
        </p:nvPicPr>
        <p:blipFill>
          <a:blip r:embed="rId1"/>
          <a:stretch/>
        </p:blipFill>
        <p:spPr>
          <a:xfrm>
            <a:off x="1482840" y="917640"/>
            <a:ext cx="632772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22:16:17Z</dcterms:created>
  <dc:creator>Samuel Mayol</dc:creator>
  <dc:description/>
  <dc:language>en-US</dc:language>
  <cp:lastModifiedBy>Besne.Julie</cp:lastModifiedBy>
  <dcterms:modified xsi:type="dcterms:W3CDTF">2018-09-04T16:42:58Z</dcterms:modified>
  <cp:revision>40</cp:revision>
  <dc:subject/>
  <dc:title>La Grande Distribution et son Marketing</dc:title>
</cp:coreProperties>
</file>